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6A69-6632-484C-B645-22693BF7C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D50-9972-401B-BE82-2721DD46B3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9C9D-B778-44C0-9730-58F2743A8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4A9B-4C96-4882-850E-DFB3C6217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097F-1EFB-40FC-B3E2-C4A035E2CA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9437-0A0E-4F64-9B01-B7AE84D8E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660D-B174-477E-A24B-34A5E8BFA5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22D-31A7-4072-BDC9-FCE71AA0ED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61E2-3CA8-4163-B3DD-3A758A6B2C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D20-E9FF-4AC1-8844-96A04E176F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F6EB-2DC5-4BCC-9A23-7C38A15B37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9E3F-B58E-4DFB-9D3D-70BC936143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7DEF-7E05-4ED8-901E-025C100E18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1BD8-4C18-4CE3-B5D0-DA366091AB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2D84-DFA6-416A-85FC-33F676383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6AC1-6308-4859-A711-442069621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45F7-1098-4CFE-98F5-4210891474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4194-64EF-4347-8C5A-8F61166F8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756-5AAA-4134-96A6-526FB7A77D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576D-4CCF-43D8-8948-44FC7C7691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E08-79AC-4C3C-8FB4-3B5369B8B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E330-17C8-4EA1-990A-0FB453BC0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44EC-D215-4A92-8B37-AE10DA0E1D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502E-BD24-4883-A9B3-71FD8BDC81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474-30DD-43F7-A39E-BD546E0EB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84BD-ADDD-42FF-AEC7-0ECA275F5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BA70-8302-4C6D-8AFB-4C2F31C33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488-2F56-4823-B562-9D030F5F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8B5-2FFC-41B1-B170-401F37E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E57DB-B67F-4A0D-985F-F9E41F3A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25516-A8CA-4396-A11D-B7E1BB72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2EE3D8-F9AB-4F57-B50D-17F9B881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E61D4D-6000-4D75-9EBB-0811C891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6E2B9A-7488-4491-9E9A-3E0CC38D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9712B1-EE8C-4489-8828-E87C873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83D8DE-4734-4BB5-A0E8-04565DE9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0DEE7-7E3C-4EBC-83BB-EDCA418A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F4CA39-2B9B-432F-AA92-8E914014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6D9475-38B5-4DF6-80F0-BEBDB42C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D17-588A-4143-A713-56A1DB29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C5DD8-45F2-496B-B53B-9F8824E0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F8A4B4-68BF-486B-9A79-1CE027B6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E0E96E-8052-477E-8D62-42B97301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0EE456-0C2C-40C6-B65A-78DE2AE2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93EF5A-0608-4887-9DA0-3F176D80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29FA12-8ED9-4989-BBCA-780367E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A01AD7-4C79-4411-B9DD-5152C235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F3F55B-1802-42D2-A470-B57E9A59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749C3A-1819-41FA-A78F-6F74E2A1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52A952-C26C-4AE1-B6C1-3A67DBB7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C95-E1DE-446B-BCEE-85355EFA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1587E5-656E-41EB-A3ED-19196D9E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A3A8-EC1C-40FC-A434-C84D7F34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E18E0-6EFD-418E-9185-E6924838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EC2E0-91AD-43BD-9902-A95713C9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10191-2F02-449E-A3FA-EE0533D0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A114C-96FA-464E-BC5F-92BD2A43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C2819-642D-4D18-879E-88249E3F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4071F-F4A1-4AFE-8562-66B7D80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2ED70-B2D9-473A-A536-53597A7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2E111-4061-4BDD-8F27-01F88D13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00837-A725-4DA6-9901-334F01B3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0C08F-CB1C-4F07-BC6E-4DE45A4F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34A15-4BA5-493B-8E01-36D9E6DC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1C005-CE85-4D5F-944E-D83FB410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F055A-6162-410D-B65D-56D4C614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3F157-AFF4-408F-96B1-2EFB761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6FB80-06EE-4729-822D-72F0D73A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43BED-7EB1-412C-B27E-A881046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E4773-C5F5-4DCA-B316-01572CC0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52F9E-921D-4657-B121-E802F9AC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B0740-A467-4E0E-9D53-DDEDC741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EA64E-7852-4B43-925A-DDE00428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67995-6B75-40EB-A65E-2577E70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754F3-F685-4DDD-992E-E5F7D44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4B21F-9F5F-4F77-8322-6D31CD7D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513D7-93B8-4ADE-B5EA-DF4C879B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AC5B9-0756-40EC-94C3-BC26B94A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55418-0B34-4695-AECE-DDB8E551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77E45-655A-4427-A2BC-FE4A2CF2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E9F5A-E015-462D-AF69-FC40E3C4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1EEC3-D19D-4093-8402-E5C450E2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70D79-855A-4BDD-A0E9-89AB734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40D-90D8-49DD-8BC9-E3CF663D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D083A-ECE3-4BA6-B475-84DFA97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95DA6-7096-48FF-B8A6-A02009B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5EEFE-4867-465C-8A21-2E8C953C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FF50-8307-4747-81B4-138BF40A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2255-3C62-4611-8F75-345EACF8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B2CE-5599-4666-87F9-C51D04AF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25AD-B6A8-4F55-8888-18F24FDA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7A33-231F-4EFB-95DB-F812ED19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39D9-0A76-4C19-93E0-FB16EBCF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82A9-DA30-4F41-B0F9-A0AB653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059-F9FA-48B0-9F1A-F1945233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701A-0AF6-41A3-B8AA-BD66A52C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B8EB-432D-4392-8297-78B7556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CAB0-AC17-413F-A5EB-1A85AB0F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6147-D7FF-4486-BDE7-7D29DF1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55D8-AF94-4DF1-AB6F-1EA78F3D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EACC-F275-4B1B-B68A-EE81A08F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E373-DA19-44FD-8551-DCBB4A6A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C403D-2AE9-4B91-A83C-A7B0FE37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40338-EE0E-4A6B-B5B5-9E578A25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A3AD7-1CB6-483A-8BE3-A33FFC0C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00C-5470-4E28-891B-3BF3F5D4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315ED-AA71-4718-BCF7-4AB27AC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B688C-23AD-4CFC-80E2-0464F6E9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27DDD-177D-46F8-80AB-8D2D138B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D1D03-48C9-4003-A875-04DED12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C948F-6D36-4475-9324-6B6D4DB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48BC9-13DC-4FFC-A3CA-653109AB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9F259-86B6-4CF5-8F0B-0FF0A75C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717AA-9E79-466E-A1F9-9626F8BB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B496D-D3E3-40D4-BDA1-E6D28D78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EB92-9041-45D9-B1D5-76268595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28A-E79B-4586-AFE1-40CF3081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72D6-3564-44AD-8337-C6C33C49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3ECD-100A-49C0-AF0C-44BD6ACA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6CCFD-4DF9-456A-8BCC-9C46137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AAAC-9DE8-4978-A27C-4FE38542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93BC-109A-437A-9DAC-7466FF64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2DB0-F641-4879-A705-20FD9335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E216-519B-4341-9D12-0B9D70F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87386-E82C-4E82-AB52-F3BBAE1D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9023-0E99-4937-AD93-8E4C38C0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B96B6-D157-47F7-8119-FAAF15E6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691-0B20-448D-A180-59520A79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C9882-C165-49A6-A4E5-69D9A798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ACB42-18F6-4BEC-A069-E7D33C14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1DAC-179E-48D5-AB75-6095300C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EC64-841A-4DC2-9A5F-30722238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B835C-5F23-4263-8BCD-2AEE94A6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E4693-09F9-4070-92BD-8464CB9F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07A63-C533-46B5-BD80-B139ED4F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532B-937E-46DA-8E1A-D8F8202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E1E9D-CC55-49A1-9724-5A6EDC2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BF24-2FAD-4DC1-BE29-5568AAC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F74-1D8F-45A9-81CC-2228C24F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9D44-C452-4F5F-AAD2-FE53F830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2E42-292E-4F26-94C0-C1079F22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2E6B2-318E-44F0-9423-003A269E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9777C-78FF-4604-9C1E-E74E191E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4AA09-04AF-43A7-B9AF-E0111586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AA31D-101C-4941-9AA9-BAFB3B89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D5C54-1F26-4F2F-B7B5-09A82397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82D4D-B6C7-4E9B-B0FD-DB34F04B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B86A-2E15-4385-B146-1E300035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E1251-0A2F-4FBB-8768-44801CC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30B-5B33-441B-A9EA-9C0CC69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EF08-0D6F-496F-9CB1-69E6D9CB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254F8-AEBA-45A1-9AE4-F2BF203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3A8ED-FBEC-421B-AAA7-5D7307E7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14A2E-6DEF-4258-B21D-1DC26195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A3382-72D3-40F3-9B7B-7617D45F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6C01E-8490-4B16-88E1-E688447C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2B67D-4624-47A2-B6B3-541B72E8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1FD97-5563-4F9F-BBD5-A726E8D9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653A-A7E3-4B69-A6CC-57EC7E14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BD733-EFE3-4973-9EFE-07820BE6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FAB-DC8D-4816-B5DD-76DB0B7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A6F2-F73A-4676-81E6-B7C27B71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89246-62A8-4A28-8E4E-4B968ECF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B6AE5-5246-4FDB-9A80-2858A6AC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FD6BA-EA33-4DA6-87C6-C8096F0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AB245-F42A-4D17-849B-64CCB03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B7CD-E3BA-4FB9-8DA5-84483869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5EE9-2A79-40CE-9698-44001509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EDA86-98D8-4E85-A0EA-4B59E96B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E4D5A3-6CE9-4F51-B151-4F42100E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73A793-3823-4B81-8B5F-70549FB6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AAD3-F2DE-45FA-937B-3368651736B3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239-55F2-49AE-AA81-013F29A6188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0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2B2-F7FC-489E-BCE6-43FECEF52590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72B9-AEFA-4616-9D48-BD1074994A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485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8761-983A-491A-8874-412EC730121C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411D-C879-4401-852C-E13E71FF06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3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4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536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EB69-729A-4F61-950D-8F7468745435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D81D-0C22-4FC3-AA06-EDE43B9AD89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ound Diagonal Corner Rectangle 1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52" name="Round Diagonal Corner Rectangle 1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AC55-FC85-461D-B538-7A48CB66B0A3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CF39-8512-4A9D-884B-25D98C56505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00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8F6-B0B1-4892-A51D-360DB0E77912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FAE5-041A-40F0-904D-826EBAFF7D4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5AB1-4852-49F1-A339-BA551EB2B86F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3455-4D22-441E-B9F9-54803B7592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90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94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1E8D-F3C7-4FE6-806A-690217A15D6D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315-4FF2-4C9E-8FB4-771FD113848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4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246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C1D2-6990-4B91-A974-A83A257CC0B4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62AA-0668-445E-B615-53E3B0568C3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299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132E-5E1E-44F9-BB22-598B9DA88EE9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C4E6-561E-4929-B7C8-0F87F7219F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4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351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995A-4613-432B-A1A5-77DA42EE1AFB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EA7-DB69-40AA-9E18-EFDD2633FF1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6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C65E-1607-467A-97AF-4080C0A5260A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1ADD-00B4-4755-ACF4-7F6A5650E01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6"/>
          <p:cNvSpPr/>
          <p:nvPr/>
        </p:nvSpPr>
        <p:spPr>
          <a:xfrm>
            <a:off x="1620360" y="762120"/>
            <a:ext cx="77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aching and Learning with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27"/>
          <p:cNvSpPr/>
          <p:nvPr/>
        </p:nvSpPr>
        <p:spPr>
          <a:xfrm>
            <a:off x="1391760" y="762120"/>
            <a:ext cx="77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aching and Learning with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28"/>
          <p:cNvSpPr/>
          <p:nvPr/>
        </p:nvSpPr>
        <p:spPr>
          <a:xfrm>
            <a:off x="990720" y="27432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bde"/>
                </a:solidFill>
                <a:latin typeface="Arial Rounded MT Bold"/>
              </a:rPr>
              <a:t>Theoretical</a:t>
            </a:r>
            <a:br>
              <a:rPr sz="4800"/>
            </a:br>
            <a:r>
              <a:rPr b="1" lang="en-US" sz="4800" spc="-1" strike="noStrike">
                <a:solidFill>
                  <a:srgbClr val="eaebde"/>
                </a:solidFill>
                <a:latin typeface="Arial Rounded MT Bold"/>
              </a:rPr>
              <a:t>Found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29"/>
          <p:cNvSpPr/>
          <p:nvPr/>
        </p:nvSpPr>
        <p:spPr>
          <a:xfrm>
            <a:off x="4495680" y="25146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30"/>
          <p:cNvSpPr/>
          <p:nvPr/>
        </p:nvSpPr>
        <p:spPr>
          <a:xfrm rot="3942000">
            <a:off x="155160" y="408600"/>
            <a:ext cx="1719000" cy="1463760"/>
          </a:xfrm>
          <a:prstGeom prst="rect">
            <a:avLst/>
          </a:prstGeom>
          <a:solidFill>
            <a:srgbClr val="fffaef"/>
          </a:solidFill>
          <a:ln w="9360">
            <a:solidFill>
              <a:srgbClr val="ff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2"/>
          <p:cNvSpPr/>
          <p:nvPr/>
        </p:nvSpPr>
        <p:spPr>
          <a:xfrm>
            <a:off x="0" y="457200"/>
            <a:ext cx="9144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3"/>
          <p:cNvSpPr/>
          <p:nvPr/>
        </p:nvSpPr>
        <p:spPr>
          <a:xfrm>
            <a:off x="60480" y="598320"/>
            <a:ext cx="92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riffonShadow"/>
              </a:rPr>
              <a:t>Technology and Teaching in Lear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Group 34"/>
          <p:cNvGrpSpPr/>
          <p:nvPr/>
        </p:nvGrpSpPr>
        <p:grpSpPr>
          <a:xfrm>
            <a:off x="0" y="1523880"/>
            <a:ext cx="9143640" cy="75960"/>
            <a:chOff x="0" y="1523880"/>
            <a:chExt cx="9143640" cy="75960"/>
          </a:xfrm>
        </p:grpSpPr>
        <p:sp>
          <p:nvSpPr>
            <p:cNvPr id="597" name="Line 35"/>
            <p:cNvSpPr/>
            <p:nvPr/>
          </p:nvSpPr>
          <p:spPr>
            <a:xfrm>
              <a:off x="0" y="1523880"/>
              <a:ext cx="9143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36"/>
            <p:cNvSpPr/>
            <p:nvPr/>
          </p:nvSpPr>
          <p:spPr>
            <a:xfrm>
              <a:off x="0" y="1599840"/>
              <a:ext cx="9143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Footer Placeholder 11"/>
          <p:cNvSpPr/>
          <p:nvPr/>
        </p:nvSpPr>
        <p:spPr>
          <a:xfrm>
            <a:off x="1600200" y="6508800"/>
            <a:ext cx="390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Rockwell"/>
              </a:rPr>
              <a:t>Psychological Facto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dividual differences that define and impact communicated informa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Emotional state may interfere with message recep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Learning styles may interfere with transmission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4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Rockwell"/>
              </a:rPr>
              <a:t>Personal Filte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dividual’s values, heritage, and belief system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ay include attitudes, cultural differences, and opin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Filters are present in both sender and receiv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Rectangle 3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Rockwell"/>
              </a:rPr>
              <a:t>Behaviorist’s Perspectiv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ll behavior is a response to external stimuli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Students learn in response to rewards and punish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Learning is a passive response to the environm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Cognitivist’s Perspecti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Focus is on learning as a mental opera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formation enters through senses Learning is explained by how one think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Believe learning is more complex than behaviorist respons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Constructivist’s Perspecti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Knowledge is constructed as a result of the learning process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Learning occurs when knowledge is assimilated or accommodated (Piaget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Knowledge may be constructed best in a social contex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3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Cognitive Sty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anner in which one thinks and interprets the environm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yers-Briggs helps determine cognitive preferenc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Understanding cognitive styles helps teachers create supportive environ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3" descr="Fig 1-7"/>
          <p:cNvPicPr/>
          <p:nvPr/>
        </p:nvPicPr>
        <p:blipFill>
          <a:blip r:embed="rId2"/>
          <a:stretch/>
        </p:blipFill>
        <p:spPr>
          <a:xfrm>
            <a:off x="4114800" y="1752480"/>
            <a:ext cx="3557520" cy="44197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4"/>
          <p:cNvSpPr/>
          <p:nvPr/>
        </p:nvSpPr>
        <p:spPr>
          <a:xfrm>
            <a:off x="762120" y="335268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ers-Bri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gnitive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Learning Sty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Conditions under which one learns bes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Relates to individual sensory dominanc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uditory learners learn best by listen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Visual learners learn best by see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Kinesthetic/Tactile learners learn best by doing and touch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Rectangle 2" descr=""/>
          <p:cNvPicPr/>
          <p:nvPr/>
        </p:nvPicPr>
        <p:blipFill>
          <a:blip r:embed="rId1"/>
          <a:stretch/>
        </p:blipFill>
        <p:spPr>
          <a:xfrm>
            <a:off x="1652760" y="378000"/>
            <a:ext cx="7119720" cy="11649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 txBox="1"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a50021"/>
                </a:solidFill>
                <a:latin typeface="Rockwell"/>
              </a:rPr>
              <a:t>Intelligence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herent capabilities to learn and understan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Standford-Binet tests emphasize logical/mathematical and verbal capabiliti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Howard Gardner’s Theory of Multiple Intelligences emphasizes multiple capabiliti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Rectangle 13" descr=""/>
          <p:cNvPicPr/>
          <p:nvPr/>
        </p:nvPicPr>
        <p:blipFill>
          <a:blip r:embed="rId1"/>
          <a:stretch/>
        </p:blipFill>
        <p:spPr>
          <a:xfrm>
            <a:off x="1652760" y="378000"/>
            <a:ext cx="7119720" cy="11649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Verbal-Linguistic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athematical-Logic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Visual-Spati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Bodily-Kinesthetic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16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terperson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traperson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Naturalistic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Existential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usic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1905120" y="1828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Multiple Intellig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ooter Placeholder 5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Rectangl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504200" cy="11588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 txBox="1"/>
          <p:nvPr/>
        </p:nvSpPr>
        <p:spPr>
          <a:xfrm>
            <a:off x="8380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Educational technology is any technology that is used to support teaching and learn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ISTE’s NETS-T and NETS-S standards articulate what teachers and students should kno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4f5ea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"/>
          <p:cNvSpPr/>
          <p:nvPr/>
        </p:nvSpPr>
        <p:spPr>
          <a:xfrm>
            <a:off x="457200" y="30481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Multiple Intellig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Rectangle 5" descr=""/>
          <p:cNvPicPr/>
          <p:nvPr/>
        </p:nvPicPr>
        <p:blipFill>
          <a:blip r:embed="rId1"/>
          <a:stretch/>
        </p:blipFill>
        <p:spPr>
          <a:xfrm>
            <a:off x="1652760" y="378000"/>
            <a:ext cx="7119720" cy="11649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3989520" cy="4552920"/>
          </a:xfrm>
          <a:prstGeom prst="rect">
            <a:avLst/>
          </a:prstGeom>
          <a:ln w="0">
            <a:noFill/>
          </a:ln>
        </p:spPr>
      </p:pic>
      <p:sp>
        <p:nvSpPr>
          <p:cNvPr id="668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Rectangle 10" descr=""/>
          <p:cNvPicPr/>
          <p:nvPr/>
        </p:nvPicPr>
        <p:blipFill>
          <a:blip r:embed="rId1"/>
          <a:stretch/>
        </p:blipFill>
        <p:spPr>
          <a:xfrm>
            <a:off x="1695600" y="378000"/>
            <a:ext cx="7076880" cy="115884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Teaching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= a systematic, planned sequence of event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A process that communicates ideas/skill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Takes into account individual and environmental facto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Aware of learning theories &amp; learner characteristic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Rectangle 10" descr=""/>
          <p:cNvPicPr/>
          <p:nvPr/>
        </p:nvPicPr>
        <p:blipFill>
          <a:blip r:embed="rId1"/>
          <a:stretch/>
        </p:blipFill>
        <p:spPr>
          <a:xfrm>
            <a:off x="1695600" y="378000"/>
            <a:ext cx="7076880" cy="1158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Technology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: a component of the teaching/learning proc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Educational technology includes resources that facilitate teaching/learn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This view of technology has evolved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It’s consistent with evolution of  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learning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 theori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9" descr=""/>
          <p:cNvPicPr/>
          <p:nvPr/>
        </p:nvPicPr>
        <p:blipFill>
          <a:blip r:embed="rId1"/>
          <a:stretch/>
        </p:blipFill>
        <p:spPr>
          <a:xfrm>
            <a:off x="1695600" y="378000"/>
            <a:ext cx="7076880" cy="115884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eaching and learning work together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olistic planning is the key to effective learn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Educational technologies selected after planning complete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o enhance instru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1"/>
          <a:stretch/>
        </p:blipFill>
        <p:spPr>
          <a:xfrm>
            <a:off x="1620720" y="378000"/>
            <a:ext cx="7072560" cy="115884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An Historical Overvie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Began in the early </a:t>
            </a: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00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with movi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lides, radio, sound recordings were added in the </a:t>
            </a: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20s-1930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elevision drove audio-visuals in the </a:t>
            </a: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50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Rectangle 11" descr=""/>
          <p:cNvPicPr/>
          <p:nvPr/>
        </p:nvPicPr>
        <p:blipFill>
          <a:blip r:embed="rId1"/>
          <a:stretch/>
        </p:blipFill>
        <p:spPr>
          <a:xfrm>
            <a:off x="1620720" y="378000"/>
            <a:ext cx="7072560" cy="1158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An Historical Overvie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60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: A-V expanded to a broader systems view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70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: educational technology redefined and expanded further to include all technologi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80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: educational technology entered the Digital A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3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10" descr=""/>
          <p:cNvPicPr/>
          <p:nvPr/>
        </p:nvPicPr>
        <p:blipFill>
          <a:blip r:embed="rId1"/>
          <a:stretch/>
        </p:blipFill>
        <p:spPr>
          <a:xfrm>
            <a:off x="1620720" y="378000"/>
            <a:ext cx="7072560" cy="11588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9144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To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Holistic view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All media and systems that support  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teaching/learn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Teachers must decide how to best utilize technolog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86" name="Picture 18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38600" cy="3214800"/>
          </a:xfrm>
          <a:prstGeom prst="rect">
            <a:avLst/>
          </a:prstGeom>
          <a:ln w="0">
            <a:noFill/>
          </a:ln>
        </p:spPr>
      </p:pic>
      <p:sp>
        <p:nvSpPr>
          <p:cNvPr id="687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Rectangle 2" descr=""/>
          <p:cNvPicPr/>
          <p:nvPr/>
        </p:nvPicPr>
        <p:blipFill>
          <a:blip r:embed="rId1"/>
          <a:stretch/>
        </p:blipFill>
        <p:spPr>
          <a:xfrm>
            <a:off x="1914480" y="274680"/>
            <a:ext cx="6705720" cy="11826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Technology are the tools to help create an effective instructional ev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Rockwell"/>
              </a:rPr>
              <a:t>Instructional events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 = all teaching methods and learning experienc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Rockwell"/>
              </a:rPr>
              <a:t>Learning environment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 = physical and non-physical aspects where instruction takes plac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Rectangle 2" descr=""/>
          <p:cNvPicPr/>
          <p:nvPr/>
        </p:nvPicPr>
        <p:blipFill>
          <a:blip r:embed="rId1"/>
          <a:stretch/>
        </p:blipFill>
        <p:spPr>
          <a:xfrm>
            <a:off x="1884240" y="450720"/>
            <a:ext cx="6126120" cy="11588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Variety of theories explain how we lear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Each theory offers a different perspective or view as to how learning occu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ome theories may be contradict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eachers must decide on theory for themselv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2" descr="Fig 1-6"/>
          <p:cNvPicPr/>
          <p:nvPr/>
        </p:nvPicPr>
        <p:blipFill>
          <a:blip r:embed="rId2"/>
          <a:stretch/>
        </p:blipFill>
        <p:spPr>
          <a:xfrm>
            <a:off x="3581280" y="1905120"/>
            <a:ext cx="4229280" cy="42544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3"/>
          <p:cNvSpPr/>
          <p:nvPr/>
        </p:nvSpPr>
        <p:spPr>
          <a:xfrm>
            <a:off x="531720" y="2971800"/>
            <a:ext cx="314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ndation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cks for 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ing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Rectangle 2" descr=""/>
          <p:cNvPicPr/>
          <p:nvPr/>
        </p:nvPicPr>
        <p:blipFill>
          <a:blip r:embed="rId1"/>
          <a:stretch/>
        </p:blipFill>
        <p:spPr>
          <a:xfrm>
            <a:off x="1731960" y="450720"/>
            <a:ext cx="6083280" cy="11653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50021"/>
                </a:solidFill>
                <a:latin typeface="Rockwell"/>
              </a:rPr>
              <a:t>Learning as Communication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ockwell"/>
              </a:rPr>
              <a:t>Knowledge is transferred from sender to receiver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ockwell"/>
              </a:rPr>
              <a:t>Receiver returns feedback to sender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ockwell"/>
              </a:rPr>
              <a:t>Sender receives feedback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ockwell"/>
              </a:rPr>
              <a:t>Variables may alter intended meaning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5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" descr=""/>
          <p:cNvPicPr/>
          <p:nvPr/>
        </p:nvPicPr>
        <p:blipFill>
          <a:blip r:embed="rId1"/>
          <a:stretch/>
        </p:blipFill>
        <p:spPr>
          <a:xfrm>
            <a:off x="1731960" y="450720"/>
            <a:ext cx="6083280" cy="11653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76212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a50021"/>
                </a:solidFill>
                <a:latin typeface="Rockwell"/>
              </a:rPr>
              <a:t>Learning as Communication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  <p:grpSp>
        <p:nvGrpSpPr>
          <p:cNvPr id="618" name="Group 17"/>
          <p:cNvGrpSpPr/>
          <p:nvPr/>
        </p:nvGrpSpPr>
        <p:grpSpPr>
          <a:xfrm>
            <a:off x="838080" y="2438280"/>
            <a:ext cx="7620120" cy="3657600"/>
            <a:chOff x="838080" y="2438280"/>
            <a:chExt cx="7620120" cy="3657600"/>
          </a:xfrm>
        </p:grpSpPr>
        <p:pic>
          <p:nvPicPr>
            <p:cNvPr id="619" name="Picture 18" descr="Fig 1"/>
            <p:cNvPicPr/>
            <p:nvPr/>
          </p:nvPicPr>
          <p:blipFill>
            <a:blip r:embed="rId2"/>
            <a:stretch/>
          </p:blipFill>
          <p:spPr>
            <a:xfrm>
              <a:off x="838080" y="2438280"/>
              <a:ext cx="76201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Rectangle 19"/>
            <p:cNvSpPr/>
            <p:nvPr/>
          </p:nvSpPr>
          <p:spPr>
            <a:xfrm>
              <a:off x="2481120" y="3711240"/>
              <a:ext cx="1054080" cy="1487520"/>
            </a:xfrm>
            <a:prstGeom prst="rect">
              <a:avLst/>
            </a:prstGeom>
            <a:gradFill rotWithShape="0">
              <a:gsLst>
                <a:gs pos="0">
                  <a:srgbClr val="cae0fe"/>
                </a:gs>
                <a:gs pos="50000">
                  <a:srgbClr val="ffffff"/>
                </a:gs>
                <a:gs pos="100000">
                  <a:srgbClr val="cae0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20"/>
            <p:cNvSpPr/>
            <p:nvPr/>
          </p:nvSpPr>
          <p:spPr>
            <a:xfrm>
              <a:off x="5792040" y="3745800"/>
              <a:ext cx="1054080" cy="1487520"/>
            </a:xfrm>
            <a:prstGeom prst="rect">
              <a:avLst/>
            </a:prstGeom>
            <a:gradFill rotWithShape="0">
              <a:gsLst>
                <a:gs pos="0">
                  <a:srgbClr val="cae0fe"/>
                </a:gs>
                <a:gs pos="50000">
                  <a:srgbClr val="ffffff"/>
                </a:gs>
                <a:gs pos="100000">
                  <a:srgbClr val="cae0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2" name="Picture 21" descr="j0301252"/>
            <p:cNvPicPr/>
            <p:nvPr/>
          </p:nvPicPr>
          <p:blipFill>
            <a:blip r:embed="rId3"/>
            <a:stretch/>
          </p:blipFill>
          <p:spPr>
            <a:xfrm>
              <a:off x="2528280" y="4073040"/>
              <a:ext cx="978840" cy="84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22" descr="j0292024"/>
            <p:cNvPicPr/>
            <p:nvPr/>
          </p:nvPicPr>
          <p:blipFill>
            <a:blip r:embed="rId4"/>
            <a:stretch/>
          </p:blipFill>
          <p:spPr>
            <a:xfrm>
              <a:off x="5818320" y="4023360"/>
              <a:ext cx="1002960" cy="91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Footer Placeholder 9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Rectangle 11" descr=""/>
          <p:cNvPicPr/>
          <p:nvPr/>
        </p:nvPicPr>
        <p:blipFill>
          <a:blip r:embed="rId1"/>
          <a:stretch/>
        </p:blipFill>
        <p:spPr>
          <a:xfrm>
            <a:off x="1731960" y="450720"/>
            <a:ext cx="6083280" cy="11653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Fig 1-5"/>
          <p:cNvPicPr/>
          <p:nvPr/>
        </p:nvPicPr>
        <p:blipFill>
          <a:blip r:embed="rId2"/>
          <a:stretch/>
        </p:blipFill>
        <p:spPr>
          <a:xfrm>
            <a:off x="3048120" y="1752480"/>
            <a:ext cx="4952880" cy="466416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15"/>
          <p:cNvSpPr/>
          <p:nvPr/>
        </p:nvSpPr>
        <p:spPr>
          <a:xfrm>
            <a:off x="458280" y="33526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Rectangle 2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Rockwell"/>
              </a:rPr>
              <a:t>Environmental Facto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ny factor that may cause a learner to lose focu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Can block communic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Lighting, movement, temperature may interfere with communic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1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9T00:09:04Z</dcterms:created>
  <dc:creator>Unknown User</dc:creator>
  <dc:description/>
  <dc:language>en-US</dc:language>
  <cp:lastModifiedBy>cregan</cp:lastModifiedBy>
  <dcterms:modified xsi:type="dcterms:W3CDTF">2010-03-23T18:04:13Z</dcterms:modified>
  <cp:revision>30</cp:revision>
  <dc:subject/>
  <dc:title>Theoretical Foundations</dc:title>
</cp:coreProperties>
</file>